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7AA3E-4691-433A-9C09-B1C09DAE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12D22-A909-4DC3-BC8D-305F77DB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49DAD-A304-4CA0-8B93-84CCE85B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7F8F6-B8A0-43DA-B7CD-81A30D0A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46B7-16CB-413D-95F7-0B392A9A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F3CA-ACD2-4D35-A7A9-02FF862D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F4A6-D8A4-4E87-80E1-D5870DF5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7E2C-49DA-4DC6-A04E-DA1015EA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4B6A-18A7-407A-887A-92FE79F5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6146-3F00-4F74-8846-41AAC7B9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857E-574E-4D18-B791-D51A14CB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435F9-17B1-4818-943E-D3FEDB17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1994-2FB4-49A3-BF3E-A0DD5C8A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456F-82E2-43BC-A9D6-F8B3D8B5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83B3-8310-46BE-90AA-8826C37C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DD4B-271E-4BDC-A505-DBF4E544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5922-B32B-4F41-B58C-FD2122BE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CBFC1-124B-49C9-AD4A-13620D10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A08F3-4BFC-42B0-AA90-B33089B7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54042-946C-4CB5-A617-1636BC92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F57FD-25F7-4D17-B2B1-D72B8510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CDC35-67B9-49CA-BFB5-CEF4F5DC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FC777-7BF3-4094-A0AC-7C817046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105B8-F531-4B0B-9359-88B16EA1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4225-6BFD-4182-A8D0-4EDFCA6480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4F7D-A281-45D6-899C-083F856121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 of Farm Animal Welfare Mea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Higher standards likely to increase production cos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crease in cage size for laying hens increases costs by 10-20% and elimination of cages by 40-70%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rge impact on producers if consumers switch to competing products or non-conforming sources of suppl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 of Farm Animal Welfare Mea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 is lower if consumers are willing to pay for higher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beling can be used to inform consumer cho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ut studies suggest that expressions of “willingness to pay” are not likely to be reflected in actual consumer choi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rm Animal Welfare Measures The Fu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rowing pressure for higher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ifferences in legislation at the state level could lead to distor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alance needed between legislative and voluntary mechanis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re research needed, particularly on economic aspects of higher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Humane Treatment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of Farm Animal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vid Blandf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umane Treatment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f Farm Anim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ductivity and animal welfare in conflict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rowing public pressure for higher welfare standards – production of eggs, pork and veal under particular scrutiny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at approach should be used – self-regulation or legislatio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rm Animal Welfare Concer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nimal welfare – a difficult concept to define and measure objectivel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fining “humane” treatment even more challenging due to value judgmen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cientific indicators of well-being based on productivity, health, physiology and behavi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rm Animal Welfare View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nimal rights – animal agriculture should not exis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elfare as a “moral” good – absolute standards that must be me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elfare as a market failure issue to which economic principles can be appli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urrent Farm Animal Welfare Legislation - Feder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nimal Welfare Act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966) does not apply to farm anim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Humane Methods of Slaughter Act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(1978) excludes poultr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Twenty-eight Hour Law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(1873) regulates transportation of farm anim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urrent Farm Animal Welfare Legislation - St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ew Jersey “humane” treatment act 1996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everal states (e.g., Florida) regulate use of crates for veal calves and sow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California Prevention of Farm Animal Cruelty Act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 comes into force in 201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allot initiatives have been used to promote legis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urrent Farm Animal Welfare Legislation - St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everal states have established boards to advise on standards and practi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gulatory activity at the state level has been steadily increasing with differences in provisions and their scop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rm Animal Welfar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dustry Mea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ited Egg Producers (UEP) setting standards for laying hens since 199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Voluntary approaches to higher standards promoted by food industry organizations and private firms (e.g., McDonalds®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ome companies terminate contracts with suppliers that fail performance aud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0T21:37:19Z</dcterms:modified>
  <cp:revision>20</cp:revision>
  <dc:subject/>
  <dc:title>U.S. Policies Affecting Food and Agricultural Marketing</dc:title>
</cp:coreProperties>
</file>